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8DC3-79D1-47BD-9B89-7252AFB18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2BEC-A5DA-4DF9-A3EB-615867C0BB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1518-DFC2-49AF-84CF-562C0264D0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604B-0907-4F0B-98E2-733C31D670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4D5-04F3-43A1-91DB-28826F44093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C63E-D9B2-42D3-B333-9AF2B1E24A6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08C9-1214-40CB-900B-1386C95D7D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4F50-B338-4A62-88CA-B92F9EF9C25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AA80-6C1D-46A5-9407-744C080630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D5E2-4BF2-479F-8068-A2D2C05454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FF1D-90AE-441A-93A8-6EE7255C4DD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32D-2214-4800-AC1E-04E92F1B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CF8-F2DD-43DB-B757-9AADF7AD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7CD6-2598-46DC-A7BC-C72D24CF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FFB-7921-478F-892B-0E1D5579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4A28-F091-4714-8494-3269E157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CD20-8998-4FDD-9642-6F780213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27B2-98B7-4B45-805A-240B7509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D680-BCCB-4608-9825-F00B76D4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2E3D-A4B4-48FB-B47A-8ABB804B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C8A4-0F57-49D3-867B-E6941203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C606-77C4-48DB-85F0-07683033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B97-D6E1-4DC6-9147-09F6C48D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7C52-E026-4C83-9EC2-D907491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E6BA-F318-45D4-8636-0600058F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BD16-F596-4558-A915-192BB1FE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60A3-254F-49A7-A703-1F14D4FD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FFB4-4440-4E13-8C60-E75349E5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54D6E-EAC9-4380-8EFA-0081FD6F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2143-F69F-40B7-9EEC-62D19549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E01E-7DC4-4D8D-8612-5468352C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B17A-3BFB-401F-A782-5F70AF1D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B97A4-165E-4B3A-B72E-71F5D2D9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CD6-A07B-4D57-A48C-389145A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D579-D1BE-4F94-9042-B3885A66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B60BD-6C8E-4C0E-B003-35E11AFD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9022-BE39-465D-A5E6-A45305D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99654-EF73-4588-9BA9-B2FF90EF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DD40F-6A78-4391-BD48-BFFFAB1E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C4ED-37BA-4EF8-96A8-296E3709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676F-AC87-4387-BF43-545ADEA5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460C-7BEB-436D-AEB0-B4E91F4F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1B47-9572-4A6A-9417-EAA38435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987AC-A0D0-4A36-8897-D321AF06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DF7-8E69-4053-8010-18D2122A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3CC5-1B28-426F-B8AC-0F709C56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C2ED-24FA-4848-A406-41D6A7A4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9193-6216-4474-A1D7-1405EE47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7E40E-17C6-4A86-AD7B-2A9DA988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30C09-97D9-4ECE-9AC2-BCB65EFE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10CF-0FDA-4675-8AAB-D4F0F3E6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C6FF4-966B-4406-99B9-A48632F8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9CDFB-CA58-458F-91A8-C7EADE11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56178-5432-4FCC-BD49-2625605C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C640A-64D9-4A6D-A423-D7897F67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C9D-57B0-48A8-B3C0-305A760F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B5638-82FE-4AEE-B92E-E8CD3762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76F4A-61DF-46FA-808F-F5E36BEB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96123-F925-46C5-BB61-B8805676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D86C3-75DC-462B-8163-C336303D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E5616-7317-4D38-B772-3E057D7C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C8327-048A-4CF1-845E-AC6DDB24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79DAC-A368-44EC-8D19-0C4B0393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85B7D-77BE-439C-83CC-645D22AD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37E5-48AD-4EC1-A759-7E7D6E4E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B929-15AA-4CDE-8267-3CCB3349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608E-A6A1-4439-9EC0-69ACED85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88748-C410-4681-A39E-09E0AC02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8DDF9-0C57-48C0-8F52-F97A5686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E7E72-C445-4620-B822-AFC58380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3919-FB89-4CEA-8E43-A673F8BC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13D1D-F353-4D42-9AED-437BD3A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4EA5F-4020-4305-B37E-5814DA5F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BBF74-B333-42F7-9911-CF307D3A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140C1-0C91-48EA-AE05-5F47668F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79CEC-48AA-481E-A4FE-55AB37B7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5C347-3D8D-4D32-88E2-DA8F3FCA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28B-D8D4-45EB-80BE-5871FFB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9FFC-2D37-43D3-BA2B-8D52A54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FDA6A-3B0A-42D8-9C4C-C358C407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7A203-F173-436D-A9A4-CCA6E0FF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17E9F-EC94-4516-BEF1-D64B8631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A085A-4356-430B-A535-A5181533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C083A-C894-4139-B1FA-60AF83A5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F234A-8B81-4586-9ACA-B94827FE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5A795-5CED-4131-8AF5-725541F4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BBBF6-F315-4D37-AD7E-467F1597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0553D-5382-4FA9-A6E2-7C3CA6B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24F0-9C52-4EB9-9685-FC3A32B0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30B4A-0399-48DF-860E-9B2B9A62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FEF01-4FE3-4550-B5CA-EB65948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3904F-7182-41B8-BB46-2B21E3EC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A247C-CEA4-4A96-BA3C-2983636E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0F125-E34D-48CF-9262-A4655839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EF3-E539-4F79-BF33-8F9DE394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ADF6-3E0B-40CF-91F1-AE0AA4969A9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3F07-F6B5-47C6-BF62-EBE350464F72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D671-D4D8-4301-93FE-B0342996008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6A82-3158-4070-B886-D79087A8A00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B335-2776-4C4D-98F6-E312C6BA6DB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67FB-3AD3-4CBA-9D50-C40A477E6F4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037-A72B-4D5F-A7B1-D1E6B420A2DB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547120" cy="1407960"/>
          </a:xfrm>
          <a:prstGeom prst="rect">
            <a:avLst/>
          </a:prstGeom>
          <a:ln w="0">
            <a:noFill/>
          </a:ln>
        </p:spPr>
      </p:pic>
      <p:pic>
        <p:nvPicPr>
          <p:cNvPr id="309" name="Content Placeholder 6" descr="miro-sample.jpg"/>
          <p:cNvPicPr/>
          <p:nvPr/>
        </p:nvPicPr>
        <p:blipFill>
          <a:blip r:embed="rId2"/>
          <a:stretch/>
        </p:blipFill>
        <p:spPr>
          <a:xfrm>
            <a:off x="1504800" y="1722600"/>
            <a:ext cx="1943280" cy="231588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7" descr="mondrian.jpg"/>
          <p:cNvPicPr/>
          <p:nvPr/>
        </p:nvPicPr>
        <p:blipFill>
          <a:blip r:embed="rId3"/>
          <a:stretch/>
        </p:blipFill>
        <p:spPr>
          <a:xfrm>
            <a:off x="5122800" y="1722600"/>
            <a:ext cx="3089160" cy="23158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pollock-sample.jpg"/>
          <p:cNvPicPr/>
          <p:nvPr/>
        </p:nvPicPr>
        <p:blipFill>
          <a:blip r:embed="rId4"/>
          <a:stretch/>
        </p:blipFill>
        <p:spPr>
          <a:xfrm>
            <a:off x="1143000" y="4419720"/>
            <a:ext cx="3160800" cy="2133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warhol-me2.jpg"/>
          <p:cNvPicPr/>
          <p:nvPr/>
        </p:nvPicPr>
        <p:blipFill>
          <a:blip r:embed="rId5"/>
          <a:stretch/>
        </p:blipFill>
        <p:spPr>
          <a:xfrm>
            <a:off x="5867280" y="4267080"/>
            <a:ext cx="198756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 is the last slide and should include a list of the URLs you visited for biographic informatio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o information about Joan Miro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Placeholder 6" descr="miro-sample.jpg"/>
          <p:cNvPicPr/>
          <p:nvPr/>
        </p:nvPicPr>
        <p:blipFill>
          <a:blip r:embed="rId2"/>
          <a:stretch/>
        </p:blipFill>
        <p:spPr>
          <a:xfrm>
            <a:off x="2286000" y="181080"/>
            <a:ext cx="4791240" cy="57099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Action Button: Home 7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o information about Piet Mondria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Placeholder 7" descr="mondrian.jpg"/>
          <p:cNvPicPr/>
          <p:nvPr/>
        </p:nvPicPr>
        <p:blipFill>
          <a:blip r:embed="rId2"/>
          <a:srcRect l="0" t="130" r="0" b="13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o information about Jackson Polloc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by Mrs. Sedgwick at jacksonpollock.org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Placeholder 6" descr="pollock-sample.jpg"/>
          <p:cNvPicPr/>
          <p:nvPr/>
        </p:nvPicPr>
        <p:blipFill>
          <a:blip r:embed="rId2"/>
          <a:srcRect l="4883" t="0" r="4883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30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io information about Andy Warh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Placeholder 7" descr="warhol-me2.jpg"/>
          <p:cNvPicPr/>
          <p:nvPr/>
        </p:nvPicPr>
        <p:blipFill>
          <a:blip r:embed="rId2"/>
          <a:stretch/>
        </p:blipFill>
        <p:spPr>
          <a:xfrm>
            <a:off x="2362320" y="181080"/>
            <a:ext cx="4786200" cy="5686200"/>
          </a:xfrm>
          <a:prstGeom prst="rect">
            <a:avLst/>
          </a:prstGeom>
          <a:ln w="0">
            <a:noFill/>
          </a:ln>
        </p:spPr>
      </p:pic>
      <p:sp>
        <p:nvSpPr>
          <p:cNvPr id="336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2:49:07Z</dcterms:created>
  <dc:creator>Sedgwick</dc:creator>
  <dc:description/>
  <dc:language>en-US</dc:language>
  <cp:lastModifiedBy>Sedgwick</cp:lastModifiedBy>
  <dcterms:modified xsi:type="dcterms:W3CDTF">2008-03-11T03:22:10Z</dcterms:modified>
  <cp:revision>4</cp:revision>
  <dc:subject/>
  <dc:title>My Gallery of Fine Computer Art</dc:title>
</cp:coreProperties>
</file>